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20F-98C9-4298-AEA2-6268BC2D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B66-37C0-4257-A5E8-7FAEC915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3AB-C129-423A-85A6-3832B8CC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71D-DCC7-48C7-BC73-E6F28530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4815-319D-4414-8E02-691B478C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B923-7C2A-4B61-ACFC-093C63DF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DAD5-2837-45FB-AFD7-8A077FDD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2171-C2DA-4A24-B091-2C9B7BCA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DDE7-9E2F-427A-917C-A3148B46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4EE1-AFA5-4A70-B3C1-12E0F1C7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24CB-1BD9-4865-BD2B-5CD3EF5F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A5D-6B55-4667-9C13-BCB97DB6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2DBC-FD91-4FE2-8AF1-28AEA21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7812-EB90-4382-9CA3-D01E447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6498-BE6D-48A4-9411-CFC8F52B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E6E8-008C-4FD0-ACDB-70C44234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563-F6A6-4AC5-BFDC-73DE5738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7CA5C-A951-4080-899D-E91DCE88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1CB50-BEFC-44B7-A20C-27241C76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1A92E-17E5-46F4-859C-84F277C2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895E6-4E62-4024-9BA8-3EA73BF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BBFC0-99D3-49EE-8D60-E85E9317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08C-017F-4CC1-80F4-FC08EF6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4B452-B213-49C5-A39C-D968875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6F023-F3AE-4110-8523-175D9C3E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27AC6-CC7E-4152-B299-C63F208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9DDE7-BEB0-4970-82ED-64E546ED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2D896-A538-458E-A8BB-E954640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66711-ADA7-4FB5-B6D4-16CB8150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27BE5-41AA-46C8-BE7F-CB90FD2D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64D4-AE10-4CF6-958A-8EB37B7A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C833-3470-4E1C-8DD1-48AA5A03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9B8C-4162-4F98-8873-979B7C7D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4D-102D-4D5C-9CFE-19FD467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C811-2EF9-4601-9E21-F81397F5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0DCE-9C4B-4820-B796-1D7B54EF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EBA1-3D08-42EB-9F5E-1A43A51D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5557-0203-40D7-9335-F5ECA2C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A482-76FC-4467-91B9-C9A29C64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5B9D-11E7-4160-BA3F-39A45904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68AC-3F25-4718-A83F-41F0736A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49C9-08AB-4FAA-A00E-1AA07C55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EF219-DB7C-472C-A4FF-05178D62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F8C-E713-4FCB-8CCB-BA9763F9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95E-8C26-45C7-8215-5078C803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595-17CB-49F4-9EF3-4EE87C0C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EEA-A861-4575-91AE-4A04520C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C2D-60D1-42A4-876E-0833EF25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06E1-1FDC-4E2A-96BB-44936B8BF309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32CE-3905-4052-B06F-DC3076243F7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A442-67EF-43FC-B511-19C33489329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B494-A1BA-464A-B77A-348A853DA7B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311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Objętość prostopadłościanu. 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Jednostki objętośc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6" descr="rectangular_prism_tall"/>
          <p:cNvPicPr/>
          <p:nvPr/>
        </p:nvPicPr>
        <p:blipFill>
          <a:blip r:embed="rId1"/>
          <a:stretch/>
        </p:blipFill>
        <p:spPr>
          <a:xfrm>
            <a:off x="611280" y="4508640"/>
            <a:ext cx="14904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2"/>
          <p:cNvGrpSpPr/>
          <p:nvPr/>
        </p:nvGrpSpPr>
        <p:grpSpPr>
          <a:xfrm>
            <a:off x="7885080" y="4797360"/>
            <a:ext cx="1007640" cy="1656000"/>
            <a:chOff x="7885080" y="4797360"/>
            <a:chExt cx="1007640" cy="1656000"/>
          </a:xfrm>
        </p:grpSpPr>
        <p:pic>
          <p:nvPicPr>
            <p:cNvPr id="217" name="Picture 25" descr="Rectangular prism"/>
            <p:cNvPicPr/>
            <p:nvPr/>
          </p:nvPicPr>
          <p:blipFill>
            <a:blip r:embed="rId2"/>
            <a:srcRect l="33273" t="0" r="27468" b="22271"/>
            <a:stretch/>
          </p:blipFill>
          <p:spPr>
            <a:xfrm>
              <a:off x="7885080" y="4797360"/>
              <a:ext cx="934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51"/>
            <p:cNvSpPr/>
            <p:nvPr/>
          </p:nvSpPr>
          <p:spPr>
            <a:xfrm>
              <a:off x="8748360" y="6237360"/>
              <a:ext cx="144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WordArt 53"/>
          <p:cNvSpPr txBox="1"/>
          <p:nvPr/>
        </p:nvSpPr>
        <p:spPr>
          <a:xfrm>
            <a:off x="3780000" y="4005360"/>
            <a:ext cx="151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lit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54"/>
          <p:cNvSpPr txBox="1"/>
          <p:nvPr/>
        </p:nvSpPr>
        <p:spPr>
          <a:xfrm>
            <a:off x="4284720" y="5373720"/>
            <a:ext cx="7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m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55"/>
          <p:cNvSpPr txBox="1"/>
          <p:nvPr/>
        </p:nvSpPr>
        <p:spPr>
          <a:xfrm>
            <a:off x="5580000" y="4508640"/>
            <a:ext cx="14400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h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56"/>
          <p:cNvSpPr txBox="1"/>
          <p:nvPr/>
        </p:nvSpPr>
        <p:spPr>
          <a:xfrm>
            <a:off x="2124000" y="5084640"/>
            <a:ext cx="7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7"/>
          <p:cNvSpPr txBox="1"/>
          <p:nvPr/>
        </p:nvSpPr>
        <p:spPr>
          <a:xfrm>
            <a:off x="1547640" y="5950080"/>
            <a:ext cx="72072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8"/>
          <p:cNvSpPr txBox="1"/>
          <p:nvPr/>
        </p:nvSpPr>
        <p:spPr>
          <a:xfrm>
            <a:off x="324000" y="5950080"/>
            <a:ext cx="6490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Jednostki pojemn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179280" y="1268280"/>
            <a:ext cx="4105440" cy="1297080"/>
          </a:xfrm>
          <a:prstGeom prst="wedgeRectCallout">
            <a:avLst>
              <a:gd name="adj1" fmla="val -4796"/>
              <a:gd name="adj2" fmla="val 79375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80808"/>
                </a:solidFill>
                <a:latin typeface="Georgia"/>
              </a:rPr>
              <a:t>W życiu codziennym używamy często jednostek objętości, określających pojemność np.: jeden litr – litr ojelu, </a:t>
            </a:r>
            <a:br>
              <a:rPr sz="1800"/>
            </a:br>
            <a:r>
              <a:rPr b="0" lang="pl-PL" sz="1800" spc="-1" strike="noStrike">
                <a:solidFill>
                  <a:srgbClr val="080808"/>
                </a:solidFill>
                <a:latin typeface="Georgia"/>
              </a:rPr>
              <a:t>litr mleka, dwa i pół litra s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4" descr="ANd9GcQelPDdLwEEmXJWyYRpOG1b00wgP891o_LmpaI_X9n-VutDIor1zg"/>
          <p:cNvPicPr/>
          <p:nvPr/>
        </p:nvPicPr>
        <p:blipFill>
          <a:blip r:embed="rId1"/>
          <a:srcRect l="32153" t="0" r="29400" b="0"/>
          <a:stretch/>
        </p:blipFill>
        <p:spPr>
          <a:xfrm>
            <a:off x="3276720" y="2924280"/>
            <a:ext cx="1135080" cy="3011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5" descr="ANd9GcQc9wkDDUiMqdU4T-t68xXtPKSi20MEHEsiHXhVOT3Pr50hXSR_XtkWGgxz"/>
          <p:cNvPicPr/>
          <p:nvPr/>
        </p:nvPicPr>
        <p:blipFill>
          <a:blip r:embed="rId2"/>
          <a:srcRect l="19200" t="0" r="23417" b="0"/>
          <a:stretch/>
        </p:blipFill>
        <p:spPr>
          <a:xfrm>
            <a:off x="5219640" y="2203560"/>
            <a:ext cx="1446120" cy="2520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6" descr="coca-cola-2-liter-botle"/>
          <p:cNvPicPr/>
          <p:nvPr/>
        </p:nvPicPr>
        <p:blipFill>
          <a:blip r:embed="rId3"/>
          <a:stretch/>
        </p:blipFill>
        <p:spPr>
          <a:xfrm>
            <a:off x="7216920" y="1700280"/>
            <a:ext cx="1581120" cy="4178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7" descr="cappy-sok-pomaraczowy-1l-butelka"/>
          <p:cNvPicPr/>
          <p:nvPr/>
        </p:nvPicPr>
        <p:blipFill>
          <a:blip r:embed="rId4"/>
          <a:srcRect l="27942" t="0" r="32552" b="0"/>
          <a:stretch/>
        </p:blipFill>
        <p:spPr>
          <a:xfrm>
            <a:off x="684360" y="2997360"/>
            <a:ext cx="1223640" cy="3097080"/>
          </a:xfrm>
          <a:prstGeom prst="rect">
            <a:avLst/>
          </a:prstGeom>
          <a:ln w="0">
            <a:noFill/>
          </a:ln>
        </p:spPr>
      </p:pic>
      <p:grpSp>
        <p:nvGrpSpPr>
          <p:cNvPr id="231" name="AutoShape 138"/>
          <p:cNvGrpSpPr/>
          <p:nvPr/>
        </p:nvGrpSpPr>
        <p:grpSpPr>
          <a:xfrm>
            <a:off x="2779560" y="5767560"/>
            <a:ext cx="2000520" cy="914400"/>
            <a:chOff x="2779560" y="5767560"/>
            <a:chExt cx="2000520" cy="914400"/>
          </a:xfrm>
        </p:grpSpPr>
        <p:pic>
          <p:nvPicPr>
            <p:cNvPr id="232" name="AutoShape 138" descr=""/>
            <p:cNvPicPr/>
            <p:nvPr/>
          </p:nvPicPr>
          <p:blipFill>
            <a:blip r:embed="rId5"/>
            <a:stretch/>
          </p:blipFill>
          <p:spPr>
            <a:xfrm>
              <a:off x="2779560" y="5767560"/>
              <a:ext cx="200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941560" y="5904000"/>
              <a:ext cx="172584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1780c7"/>
                  </a:solidFill>
                  <a:latin typeface="Georgia"/>
                </a:rPr>
                <a:t>OLEJ 1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139"/>
          <p:cNvGrpSpPr/>
          <p:nvPr/>
        </p:nvGrpSpPr>
        <p:grpSpPr>
          <a:xfrm>
            <a:off x="262080" y="5913360"/>
            <a:ext cx="1993680" cy="914400"/>
            <a:chOff x="262080" y="5913360"/>
            <a:chExt cx="1993680" cy="914400"/>
          </a:xfrm>
        </p:grpSpPr>
        <p:pic>
          <p:nvPicPr>
            <p:cNvPr id="235" name="AutoShape 139" descr=""/>
            <p:cNvPicPr/>
            <p:nvPr/>
          </p:nvPicPr>
          <p:blipFill>
            <a:blip r:embed="rId6"/>
            <a:stretch/>
          </p:blipFill>
          <p:spPr>
            <a:xfrm>
              <a:off x="262080" y="5913360"/>
              <a:ext cx="199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22280" y="6048360"/>
              <a:ext cx="172548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1780c7"/>
                  </a:solidFill>
                  <a:latin typeface="Georgia"/>
                </a:rPr>
                <a:t>SOK 1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utoShape 140"/>
          <p:cNvGrpSpPr/>
          <p:nvPr/>
        </p:nvGrpSpPr>
        <p:grpSpPr>
          <a:xfrm>
            <a:off x="4943520" y="4548240"/>
            <a:ext cx="1993680" cy="914400"/>
            <a:chOff x="4943520" y="4548240"/>
            <a:chExt cx="1993680" cy="914400"/>
          </a:xfrm>
        </p:grpSpPr>
        <p:pic>
          <p:nvPicPr>
            <p:cNvPr id="238" name="AutoShape 140" descr=""/>
            <p:cNvPicPr/>
            <p:nvPr/>
          </p:nvPicPr>
          <p:blipFill>
            <a:blip r:embed="rId7"/>
            <a:stretch/>
          </p:blipFill>
          <p:spPr>
            <a:xfrm>
              <a:off x="4943520" y="4548240"/>
              <a:ext cx="199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102280" y="4680000"/>
              <a:ext cx="172548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1780c7"/>
                  </a:solidFill>
                  <a:latin typeface="Georgia"/>
                </a:rPr>
                <a:t>MLEKO 1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utoShape 141"/>
          <p:cNvGrpSpPr/>
          <p:nvPr/>
        </p:nvGrpSpPr>
        <p:grpSpPr>
          <a:xfrm>
            <a:off x="7034040" y="5840280"/>
            <a:ext cx="2013120" cy="914400"/>
            <a:chOff x="7034040" y="5840280"/>
            <a:chExt cx="2013120" cy="914400"/>
          </a:xfrm>
        </p:grpSpPr>
        <p:pic>
          <p:nvPicPr>
            <p:cNvPr id="241" name="AutoShape 141" descr=""/>
            <p:cNvPicPr/>
            <p:nvPr/>
          </p:nvPicPr>
          <p:blipFill>
            <a:blip r:embed="rId8"/>
            <a:stretch/>
          </p:blipFill>
          <p:spPr>
            <a:xfrm>
              <a:off x="7034040" y="5840280"/>
              <a:ext cx="2013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191360" y="5975280"/>
              <a:ext cx="172548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1780c7"/>
                  </a:solidFill>
                  <a:latin typeface="Georgia"/>
                </a:rPr>
                <a:t>Coca-Cola 2,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Jednostki pojemn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179280" y="1268280"/>
            <a:ext cx="4105440" cy="1297080"/>
          </a:xfrm>
          <a:prstGeom prst="wedgeRectCallout">
            <a:avLst>
              <a:gd name="adj1" fmla="val -2476"/>
              <a:gd name="adj2" fmla="val 91124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en litr równa si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decymetrowi sześcienne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cappy-sok-pomaraczowy-1l-butelka"/>
          <p:cNvPicPr/>
          <p:nvPr/>
        </p:nvPicPr>
        <p:blipFill>
          <a:blip r:embed="rId1"/>
          <a:srcRect l="27942" t="0" r="32552" b="0"/>
          <a:stretch/>
        </p:blipFill>
        <p:spPr>
          <a:xfrm>
            <a:off x="2556000" y="2924280"/>
            <a:ext cx="1224000" cy="3097080"/>
          </a:xfrm>
          <a:prstGeom prst="rect">
            <a:avLst/>
          </a:prstGeom>
          <a:ln w="0">
            <a:noFill/>
          </a:ln>
        </p:spPr>
      </p:pic>
      <p:pic>
        <p:nvPicPr>
          <p:cNvPr id="246" name="AutoShape 9" descr=""/>
          <p:cNvPicPr/>
          <p:nvPr/>
        </p:nvPicPr>
        <p:blipFill>
          <a:blip r:embed="rId2"/>
          <a:stretch/>
        </p:blipFill>
        <p:spPr>
          <a:xfrm>
            <a:off x="334800" y="4327560"/>
            <a:ext cx="1994040" cy="9144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2"/>
          <p:cNvSpPr/>
          <p:nvPr/>
        </p:nvSpPr>
        <p:spPr>
          <a:xfrm>
            <a:off x="5651640" y="3789360"/>
            <a:ext cx="2016000" cy="201600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ext Box 13" descr=""/>
          <p:cNvPicPr/>
          <p:nvPr/>
        </p:nvPicPr>
        <p:blipFill>
          <a:blip r:embed="rId3"/>
          <a:stretch/>
        </p:blipFill>
        <p:spPr>
          <a:xfrm>
            <a:off x="4029120" y="4048200"/>
            <a:ext cx="1238040" cy="1457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4"/>
          <p:cNvSpPr/>
          <p:nvPr/>
        </p:nvSpPr>
        <p:spPr>
          <a:xfrm>
            <a:off x="5796000" y="602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1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596360" y="436572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Arial"/>
              </a:rPr>
              <a:t>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443640" y="3392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Arial"/>
              </a:rPr>
              <a:t>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219640" y="3716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Arial"/>
              </a:rPr>
              <a:t>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5076720" y="1628640"/>
            <a:ext cx="3672000" cy="1008360"/>
          </a:xfrm>
          <a:prstGeom prst="wedgeRectCallout">
            <a:avLst>
              <a:gd name="adj1" fmla="val -42388"/>
              <a:gd name="adj2" fmla="val 88898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Zawartość butelki o pojemności 1 litr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możemy przelać do sześcianu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 polu 1 dm</a:t>
            </a:r>
            <a:r>
              <a:rPr b="0" lang="pl-PL" sz="16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5651640" y="3789360"/>
            <a:ext cx="2016000" cy="201600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Jednostki pojemn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79280" y="1268280"/>
            <a:ext cx="4105440" cy="1297080"/>
          </a:xfrm>
          <a:prstGeom prst="wedgeRectCallout">
            <a:avLst>
              <a:gd name="adj1" fmla="val -1777"/>
              <a:gd name="adj2" fmla="val 7276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Do określania większej ilości płynów używa się jednostki </a:t>
            </a:r>
            <a:r>
              <a:rPr b="1" lang="pl-PL" sz="1800" spc="-1" strike="noStrike">
                <a:solidFill>
                  <a:srgbClr val="ffffff"/>
                </a:solidFill>
                <a:latin typeface="Georgia"/>
              </a:rPr>
              <a:t>hektolitr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, np.: do określenia pojemności cyster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ext Box 8" descr=""/>
          <p:cNvPicPr/>
          <p:nvPr/>
        </p:nvPicPr>
        <p:blipFill>
          <a:blip r:embed="rId1"/>
          <a:stretch/>
        </p:blipFill>
        <p:spPr>
          <a:xfrm>
            <a:off x="2932200" y="4968720"/>
            <a:ext cx="3944880" cy="1140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1da66615acaeb8665c09146e0a2a531d"/>
          <p:cNvPicPr/>
          <p:nvPr/>
        </p:nvPicPr>
        <p:blipFill>
          <a:blip r:embed="rId2"/>
          <a:stretch/>
        </p:blipFill>
        <p:spPr>
          <a:xfrm>
            <a:off x="324000" y="2997360"/>
            <a:ext cx="5432400" cy="1724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autocysterna_lpg"/>
          <p:cNvPicPr/>
          <p:nvPr/>
        </p:nvPicPr>
        <p:blipFill>
          <a:blip r:embed="rId3"/>
          <a:stretch/>
        </p:blipFill>
        <p:spPr>
          <a:xfrm>
            <a:off x="5003640" y="1268280"/>
            <a:ext cx="3600720" cy="189864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6084720" y="3716280"/>
            <a:ext cx="2843280" cy="792360"/>
          </a:xfrm>
          <a:prstGeom prst="wedgeRectCallout">
            <a:avLst>
              <a:gd name="adj1" fmla="val -59884"/>
              <a:gd name="adj2" fmla="val 121745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en hektolit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to 100 litr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6156360" y="5877000"/>
            <a:ext cx="2843280" cy="792000"/>
          </a:xfrm>
          <a:prstGeom prst="wedgeRectCallout">
            <a:avLst>
              <a:gd name="adj1" fmla="val -81601"/>
              <a:gd name="adj2" fmla="val 6111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litr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na setna hektoli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Text Box 16" descr=""/>
          <p:cNvPicPr/>
          <p:nvPr/>
        </p:nvPicPr>
        <p:blipFill>
          <a:blip r:embed="rId4"/>
          <a:stretch/>
        </p:blipFill>
        <p:spPr>
          <a:xfrm>
            <a:off x="1871640" y="5761080"/>
            <a:ext cx="3925800" cy="113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Jednostki pojemn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179280" y="1125360"/>
            <a:ext cx="4392720" cy="1440000"/>
          </a:xfrm>
          <a:prstGeom prst="wedgeRectCallout">
            <a:avLst>
              <a:gd name="adj1" fmla="val -1777"/>
              <a:gd name="adj2" fmla="val 7276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Do określenia małej pojemności używa się jednostki mililitr, stosuje się ją np.: do określenia pojemności pasty do zębów, lekarstw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Text Box 4" descr=""/>
          <p:cNvPicPr/>
          <p:nvPr/>
        </p:nvPicPr>
        <p:blipFill>
          <a:blip r:embed="rId1"/>
          <a:stretch/>
        </p:blipFill>
        <p:spPr>
          <a:xfrm>
            <a:off x="2932200" y="4968720"/>
            <a:ext cx="3944880" cy="11401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5"/>
          <p:cNvSpPr/>
          <p:nvPr/>
        </p:nvSpPr>
        <p:spPr>
          <a:xfrm>
            <a:off x="6084720" y="3716280"/>
            <a:ext cx="2843280" cy="792360"/>
          </a:xfrm>
          <a:prstGeom prst="wedgeRectCallout">
            <a:avLst>
              <a:gd name="adj1" fmla="val -59884"/>
              <a:gd name="adj2" fmla="val 121745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en litr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000 mililitr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6156360" y="5877000"/>
            <a:ext cx="2843280" cy="792000"/>
          </a:xfrm>
          <a:prstGeom prst="wedgeRectCallout">
            <a:avLst>
              <a:gd name="adj1" fmla="val -72893"/>
              <a:gd name="adj2" fmla="val -5912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mililitr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na tysięczna li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 Box 7" descr=""/>
          <p:cNvPicPr/>
          <p:nvPr/>
        </p:nvPicPr>
        <p:blipFill>
          <a:blip r:embed="rId2"/>
          <a:stretch/>
        </p:blipFill>
        <p:spPr>
          <a:xfrm>
            <a:off x="1871640" y="5761080"/>
            <a:ext cx="3925800" cy="1139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ANd9GcRuYteeFJlG20MQt0hBtuk-VY3jzyJIeshf1FfVERSRwbIDMig_Iw"/>
          <p:cNvPicPr/>
          <p:nvPr/>
        </p:nvPicPr>
        <p:blipFill>
          <a:blip r:embed="rId3"/>
          <a:srcRect l="31413" t="0" r="28557" b="0"/>
          <a:stretch/>
        </p:blipFill>
        <p:spPr>
          <a:xfrm>
            <a:off x="755640" y="2997360"/>
            <a:ext cx="852480" cy="213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eurowet-c-a-p-krople-do-oczu-i-nosa-dla-golebi-10ml"/>
          <p:cNvPicPr/>
          <p:nvPr/>
        </p:nvPicPr>
        <p:blipFill>
          <a:blip r:embed="rId4"/>
          <a:srcRect l="33279" t="0" r="30784" b="7710"/>
          <a:stretch/>
        </p:blipFill>
        <p:spPr>
          <a:xfrm>
            <a:off x="4572000" y="1341360"/>
            <a:ext cx="1314360" cy="3376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780c7"/>
                </a:solidFill>
                <a:latin typeface="Trebuchet MS"/>
              </a:rPr>
              <a:t>Ćwiczenia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3419640" y="1628640"/>
            <a:ext cx="2842920" cy="792360"/>
          </a:xfrm>
          <a:prstGeom prst="wedgeRectCallout">
            <a:avLst>
              <a:gd name="adj1" fmla="val -61000"/>
              <a:gd name="adj2" fmla="val 98296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le to litrów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1692360" y="4581360"/>
            <a:ext cx="2843280" cy="792360"/>
          </a:xfrm>
          <a:prstGeom prst="wedgeRectCallout">
            <a:avLst>
              <a:gd name="adj1" fmla="val 66972"/>
              <a:gd name="adj2" fmla="val 10120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le to dm</a:t>
            </a:r>
            <a:r>
              <a:rPr b="0" lang="pl-PL" sz="18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116000" y="1557360"/>
            <a:ext cx="2664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d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1 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3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5435640" y="4581360"/>
            <a:ext cx="2592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,2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 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m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7T13:38:39Z</dcterms:modified>
  <cp:revision>110</cp:revision>
  <dc:subject/>
  <dc:title>Prezentacja programu PowerPoint</dc:title>
</cp:coreProperties>
</file>